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419-B0F0-4C09-9FB0-6CF63041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9AB-5C65-4DAC-895D-7A9C9BC7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316-E986-49BD-9694-8A0BEBD9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252-C4E3-4827-9B34-C43E7A61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E11-D50D-49CD-AF2B-73ACDC2B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88E-6DC9-4BC0-BE0E-E60AB4C8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298-DF82-478E-857F-1349F40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0B2-9461-493E-B452-30C24E49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8AD-BA3F-4411-9EE8-1640417E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CDC-B160-46F2-A37D-46266358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44E-7362-4CC5-B0A4-C32C6DA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3B4-B06C-4EF5-9C25-7BF4BCB6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h-TH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A0326D-A5B2-48F7-9190-FAC2B4F107A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8578800"/>
            <a:ext cx="1219320" cy="11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19320" y="3276720"/>
            <a:ext cx="4352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ประจำปีงบประมาณ พ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.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ศ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.2551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latin typeface="AngsanaUPC"/>
              <a:ea typeface="AngsanaUP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4382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คำรับรองการปฏิบัติราชการ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latin typeface="AngsanaUPC"/>
              <a:ea typeface="AngsanaUP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2680" y="8972640"/>
            <a:ext cx="50292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UPC"/>
              <a:ea typeface="AngsanaUP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33760" y="533520"/>
            <a:ext cx="1589040" cy="15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20680" y="4572000"/>
            <a:ext cx="46166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8420040"/>
            <a:ext cx="4419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962 </a:t>
            </a: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ถนนกรุงเกษม แขวงวัดโสมนัส                      เขตป้อมปราบศัตรูพ่าย กรุงเทพฯ </a:t>
            </a: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10100 </a:t>
            </a: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http://www.nesdb.go.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7467480"/>
            <a:ext cx="4953240" cy="162000"/>
            <a:chOff x="380880" y="7467480"/>
            <a:chExt cx="4953240" cy="162000"/>
          </a:xfrm>
        </p:grpSpPr>
        <p:sp>
          <p:nvSpPr>
            <p:cNvPr id="50" name=""/>
            <p:cNvSpPr/>
            <p:nvPr/>
          </p:nvSpPr>
          <p:spPr>
            <a:xfrm>
              <a:off x="380880" y="7629480"/>
              <a:ext cx="43434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7467480"/>
              <a:ext cx="43434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1924200" y="79246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UPC"/>
              <a:ea typeface="AngsanaUP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84280" y="85392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14:04:20Z</dcterms:created>
  <dc:creator>win</dc:creator>
  <dc:description/>
  <dc:language>en-US</dc:language>
  <cp:lastModifiedBy>chura</cp:lastModifiedBy>
  <dcterms:modified xsi:type="dcterms:W3CDTF">2008-04-25T06:27:03Z</dcterms:modified>
  <cp:revision>65</cp:revision>
  <dc:subject/>
  <dc:title>Slide 1</dc:title>
</cp:coreProperties>
</file>